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588-1770-4AD5-9F01-C4108D76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DCA-D42F-4EA9-AB89-6D46856B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4A6-7007-49F2-B88B-D420265D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AE6-A6FF-4B89-B796-27777C47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364-A6D7-4DDD-B094-B4B71416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B7E-71E8-4D07-B3B7-926761B7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8C4-F404-4781-B46E-7CEBC1FD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DAF-D145-4AEE-8ACA-8B6C808A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2AC-431E-403A-8DE8-96233B4E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059-85DA-41A9-AEE0-8FEE7357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0EF-B089-46C3-AF9D-4C743031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AA6-3262-4047-A856-374E75F2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FCC9-0509-420C-8D3A-9DA3B02633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                        INVERESK  125TH                        KIRKCONNEL  100TH                   THORNHILL  175TH                   BALLANTRAE  125TH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Inveresk 125th.jpg"/>
          <p:cNvPicPr/>
          <p:nvPr/>
        </p:nvPicPr>
        <p:blipFill>
          <a:blip r:embed="rId9">
            <a:lum bright="20000"/>
          </a:blip>
          <a:stretch/>
        </p:blipFill>
        <p:spPr>
          <a:xfrm>
            <a:off x="3584520" y="2349360"/>
            <a:ext cx="954000" cy="8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Kirkconnel 100th.jpg"/>
          <p:cNvPicPr/>
          <p:nvPr/>
        </p:nvPicPr>
        <p:blipFill>
          <a:blip r:embed="rId10"/>
          <a:stretch/>
        </p:blipFill>
        <p:spPr>
          <a:xfrm>
            <a:off x="5097600" y="2060640"/>
            <a:ext cx="1150920" cy="117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Thornhill 175th.jpg"/>
          <p:cNvPicPr/>
          <p:nvPr/>
        </p:nvPicPr>
        <p:blipFill>
          <a:blip r:embed="rId11"/>
          <a:stretch/>
        </p:blipFill>
        <p:spPr>
          <a:xfrm>
            <a:off x="6537240" y="1989000"/>
            <a:ext cx="1352520" cy="1246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Ballanntrae 125th.jpg"/>
          <p:cNvPicPr/>
          <p:nvPr/>
        </p:nvPicPr>
        <p:blipFill>
          <a:blip r:embed="rId12"/>
          <a:stretch/>
        </p:blipFill>
        <p:spPr>
          <a:xfrm>
            <a:off x="8121600" y="1989000"/>
            <a:ext cx="1163520" cy="123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Garnock Valley Ex Pres. 1.jpg"/>
          <p:cNvPicPr/>
          <p:nvPr/>
        </p:nvPicPr>
        <p:blipFill>
          <a:blip r:embed="rId13"/>
          <a:stretch/>
        </p:blipFill>
        <p:spPr>
          <a:xfrm>
            <a:off x="272880" y="3645000"/>
            <a:ext cx="1382760" cy="1360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1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.  PRES.       LARGS  HALKSHILL  125TH                   FAIRLIE  125TH                           FALKIRK  175TH                        CAMPHILL  125TH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3" descr="Fairlie 125th.jpg"/>
          <p:cNvPicPr/>
          <p:nvPr/>
        </p:nvPicPr>
        <p:blipFill>
          <a:blip r:embed="rId14"/>
          <a:stretch/>
        </p:blipFill>
        <p:spPr>
          <a:xfrm>
            <a:off x="3584520" y="3789360"/>
            <a:ext cx="1185840" cy="1216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Falkirk 175th.jpg"/>
          <p:cNvPicPr/>
          <p:nvPr/>
        </p:nvPicPr>
        <p:blipFill>
          <a:blip r:embed="rId15">
            <a:lum bright="20000"/>
          </a:blip>
          <a:stretch/>
        </p:blipFill>
        <p:spPr>
          <a:xfrm>
            <a:off x="5168880" y="3860640"/>
            <a:ext cx="1133640" cy="112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Largs Halkshill 125th.jpg"/>
          <p:cNvPicPr/>
          <p:nvPr/>
        </p:nvPicPr>
        <p:blipFill>
          <a:blip r:embed="rId16"/>
          <a:stretch/>
        </p:blipFill>
        <p:spPr>
          <a:xfrm>
            <a:off x="2000160" y="3500280"/>
            <a:ext cx="1119240" cy="144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Camphill 125th.jpg"/>
          <p:cNvPicPr/>
          <p:nvPr/>
        </p:nvPicPr>
        <p:blipFill>
          <a:blip r:embed="rId17">
            <a:lum bright="20000"/>
          </a:blip>
          <a:stretch/>
        </p:blipFill>
        <p:spPr>
          <a:xfrm>
            <a:off x="6681960" y="3716280"/>
            <a:ext cx="11509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10-11T16:16:39Z</dcterms:modified>
  <cp:revision>122</cp:revision>
  <dc:subject/>
  <dc:title>Slide 1</dc:title>
</cp:coreProperties>
</file>